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579E-E33D-430C-86FC-54E01A73A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D265-07E9-4B12-89ED-7D77D59AE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A1D2-4D70-4075-AD98-F7995F4D5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A52-4558-40FF-8625-1B482282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954-B711-4189-A748-D81E6302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D0A-8800-4096-89F7-111584CE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65E-F58B-4E83-8F39-217B9239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F8F-D5F7-4689-B77C-573FD73F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B82-B222-41CC-926F-98EF5FDA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010-884F-49DB-BE61-A9581D21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F1B-7DA5-4819-8496-FC28A10D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5AB-B4D8-4D7A-AF94-3195DD1E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796-7010-424F-879F-646E76CD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392-94C8-4ABB-A7CC-4FF40026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38A-F494-42CA-8A19-2D8EB596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CB01-ACF3-49AB-84F2-D37404C0F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mr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ias  ¿Dónde está us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343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. Mi llamas Semra. 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Vives Queens. Yo tengo quince años. Yo soy amable y energica.  Yo tengo dos hermana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565520"/>
            <a:ext cx="657360" cy="95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819520" y="380988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area ¿y tú?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12408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.                                                                            Ali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¿Qué haces?                      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819520" y="2438280"/>
            <a:ext cx="434340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!  Estoy en la escuela.  No puedo hablo.                                                                   Mich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ómo está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819520" y="449568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ien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Tú quieres comer helado más tarde?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819520" y="518148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Segur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¿qué tiempo?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819520" y="594360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4:00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diós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.                                      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mr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 Dónde está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152280" y="4343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7"/>
          <p:cNvSpPr/>
          <p:nvPr/>
        </p:nvSpPr>
        <p:spPr>
          <a:xfrm>
            <a:off x="152280" y="3581280"/>
            <a:ext cx="175284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. Mi llamas Semra. 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Vives Queens. Yo tengo quince años. Yo soy amable y energica.  Yo tengo dos hermana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565520"/>
            <a:ext cx="657360" cy="951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7"/>
          <p:cNvSpPr/>
          <p:nvPr/>
        </p:nvSpPr>
        <p:spPr>
          <a:xfrm>
            <a:off x="2819520" y="380988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area ¿y tú?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819520" y="312408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.                                                                            Ali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¿Qué haces?                      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7"/>
          <p:cNvSpPr/>
          <p:nvPr/>
        </p:nvSpPr>
        <p:spPr>
          <a:xfrm>
            <a:off x="2819520" y="2438280"/>
            <a:ext cx="434340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.                                                                            Mich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ómo está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819520" y="449568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ien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Tú quieres comer helado más tarde?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7"/>
          <p:cNvSpPr/>
          <p:nvPr/>
        </p:nvSpPr>
        <p:spPr>
          <a:xfrm>
            <a:off x="2819520" y="518148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Segur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¿qué tiempo?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7"/>
          <p:cNvSpPr/>
          <p:nvPr/>
        </p:nvSpPr>
        <p:spPr>
          <a:xfrm>
            <a:off x="2819520" y="594360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4:00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diós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.                                      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4:43:20Z</dcterms:created>
  <dc:creator>FriscoISD</dc:creator>
  <dc:description/>
  <dc:language>en-US</dc:language>
  <cp:lastModifiedBy>NYCDOE</cp:lastModifiedBy>
  <dcterms:modified xsi:type="dcterms:W3CDTF">2013-01-02T15:05:58Z</dcterms:modified>
  <cp:revision>108</cp:revision>
  <dc:subject/>
  <dc:title>Profile</dc:title>
</cp:coreProperties>
</file>